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7BDE8-4796-4E18-80F6-53D6770B5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63AEF-C411-4C85-8D89-87037407F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6A3AA-63DD-49F1-BEB9-25E55D3BF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21A0C-853F-4C2C-A62D-73123FA20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5647C-DD7D-49A2-BC13-BE4FF7852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FFBBF-C54B-429B-8A1F-17346460A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881E7-1359-4ED3-931F-D8EC20513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9B060-C008-468C-883F-F4CC40033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5216B-C9B3-4BC4-BB56-D6884EBFB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EC1D9-D159-4BAE-A241-BD5C71A68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03C49-3FC0-4E69-AC72-265A09FF7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ACFF7-F268-4DB7-8BBA-E9E7E6705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51567-D009-47CF-964C-A7C6FD8B9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5C5E0-D6E0-4B7C-A93D-F3F1E3B7D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48D98-6BAC-4665-AF91-690334A94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BD3BB-87BC-42B0-8800-DD5FD3376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A1B70-5EF5-4C79-B9CD-53A4AF10A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84E46-69B4-447B-A597-FB292EA1F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3064E-0EDE-435B-936F-9B291F003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06099-BC79-4090-846E-F2848181C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9B6E3-37CF-42BA-9262-C3867C9FE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C9962-174B-4F8A-BC0B-7EA2C4DE2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141FD-7FFD-4E59-B3AA-0E46FFAAC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03578-DE96-4D4B-B72A-4875E466F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57200" y="998640"/>
            <a:ext cx="8153280" cy="1600200"/>
            <a:chOff x="457200" y="998640"/>
            <a:chExt cx="8153280" cy="1600200"/>
          </a:xfrm>
        </p:grpSpPr>
        <p:sp>
          <p:nvSpPr>
            <p:cNvPr id="1" name="Arc 3"/>
            <p:cNvSpPr/>
            <p:nvPr/>
          </p:nvSpPr>
          <p:spPr>
            <a:xfrm>
              <a:off x="5748480" y="998640"/>
              <a:ext cx="2862000" cy="160020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5675400" y="1163520"/>
              <a:ext cx="2862000" cy="127008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Arc 5"/>
            <p:cNvSpPr/>
            <p:nvPr/>
          </p:nvSpPr>
          <p:spPr>
            <a:xfrm>
              <a:off x="5632560" y="1384200"/>
              <a:ext cx="2860560" cy="82872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AutoShape 6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4C560-AF84-4650-8980-39320B1AE8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457200" y="998640"/>
            <a:ext cx="8153280" cy="1600200"/>
            <a:chOff x="457200" y="998640"/>
            <a:chExt cx="8153280" cy="1600200"/>
          </a:xfrm>
        </p:grpSpPr>
        <p:sp>
          <p:nvSpPr>
            <p:cNvPr id="47" name="Arc 3"/>
            <p:cNvSpPr/>
            <p:nvPr/>
          </p:nvSpPr>
          <p:spPr>
            <a:xfrm>
              <a:off x="5748480" y="998640"/>
              <a:ext cx="2862000" cy="160020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Arc 4"/>
            <p:cNvSpPr/>
            <p:nvPr/>
          </p:nvSpPr>
          <p:spPr>
            <a:xfrm>
              <a:off x="5675400" y="1163520"/>
              <a:ext cx="2862000" cy="127008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Arc 5"/>
            <p:cNvSpPr/>
            <p:nvPr/>
          </p:nvSpPr>
          <p:spPr>
            <a:xfrm>
              <a:off x="5632560" y="1384200"/>
              <a:ext cx="2860560" cy="82872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AutoShape 6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01443-4DA0-4F81-BA75-2DE752C9D9DA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66"/>
                </a:solidFill>
                <a:latin typeface="Times New Roman"/>
              </a:rPr>
              <a:t>第二章   保险市场管理 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66"/>
                </a:solidFill>
                <a:latin typeface="Times New Roman"/>
              </a:rPr>
              <a:t>二、保险公司的组织结构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一）国有独资保险公司的组织结构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——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董事会、监事会和经理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二）保险股份有限公司的组织结构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——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股东大会、董事会、监事会和经理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66"/>
                </a:solidFill>
                <a:latin typeface="Times New Roman"/>
              </a:rPr>
              <a:t>三、保险公司的主要职能部门</a:t>
            </a:r>
            <a:r>
              <a:rPr b="0" lang="zh-CN" sz="4000" spc="-1" strike="noStrike">
                <a:solidFill>
                  <a:srgbClr val="ffcc66"/>
                </a:solidFill>
                <a:latin typeface="Times New Roman"/>
              </a:rPr>
              <a:t>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4360" y="1916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如市场营销部、精算部 、承保部、服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务部、理赔部、投资部、财务部等。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43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66"/>
                </a:solidFill>
                <a:latin typeface="Times New Roman"/>
              </a:rPr>
              <a:t>第三节  保险市场供需分析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一、保险市场的供给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市场的供给是指在一定价格（保险费率）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的水平上，保险市场上各家保险公司愿意并且能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够提供的保险商品的数量。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影响因素：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费率、偿付能力、保险技术、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市场的规范程度、政府的监管。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二、保险市场的需求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市场的需求是指在一定的保险费率水平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上，保险消费者从保险市场上愿意并有能力购买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的保险商品数量。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影响因素：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风险状况、保险费率、国内生产总值和消费者的货币收入、互补商品与替代商品价格、人口状况、文化传统、经济和法律制度。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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三、保险市场的供求平衡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市场供求平衡，是指在一定保险费率水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平下，保险供给恰好等于保险需求的状态，即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供给与需求达到均衡点。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4360" y="191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第四节  保险市场机制的运行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一、价值规律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价值规律是商品生产和商品交换的基本经济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规律，它的主要内容是：商品的价值量是由生产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商品的社会必要劳动时间决定的，在市场上，商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品按照价值量进行等价交换。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二、供求规律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       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供求规律表现为供给与需求之间的关系，通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过对供需双方力量的调节达到市场均衡，从而决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定市场的均衡价格，即供求状况决定商品的价格。</a:t>
            </a: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66"/>
                </a:solidFill>
                <a:latin typeface="Times New Roman"/>
              </a:rPr>
              <a:t>三、竞争规律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竞争是由商品内在的使用价值和价值的矛盾决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定的。但是保险中的竞争也受到一定的限制，主要是非价格竞争，如保险产品竞争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、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服务竞争等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66"/>
                </a:solidFill>
                <a:latin typeface="Times New Roman"/>
              </a:rPr>
              <a:t>第一节   保险市场的特点与构成要素</a:t>
            </a: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11280" y="206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66"/>
                </a:solidFill>
                <a:latin typeface="Times New Roman"/>
              </a:rPr>
              <a:t>第五节  保险市场的监管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一 、保险监管的必要性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经营的公共性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合同的特殊性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技术的复杂性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交易过程的特殊性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二 、保险监管的目标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证保险公司的偿付能力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维护保险市场的正常秩序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证保险合同的公平和公正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防止保险欺诈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三、保险监管的形式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公告监管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规范监管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实体监管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四、保险监管体系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监管法规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监管机构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行业协会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信用评级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五、保险监管内容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一）保险市场行为的监督管理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对保险机构的监督管理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对保险业务的监督管理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对财务的监督管理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二）公司治理及内控监管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六、保险监管的方法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一）现场检查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二）非现场检查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66"/>
                </a:solidFill>
                <a:latin typeface="Times New Roman"/>
              </a:rPr>
              <a:t>复习思考题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名词解释：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国营保险  保险股份有限公司   相互保险公司  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专业自保公司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简述国有独资保险公司的特点和组织结构。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简述股份制保险公司和相互保险公司的特点。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分析影响保险供给和需求的主要因素以及保险市场机制的特殊作用。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5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简述保险监管的必要性和目标。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6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列举保险监管的主要内容。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66"/>
                </a:solidFill>
                <a:latin typeface="Times New Roman"/>
              </a:rPr>
              <a:t>一、保险市场的特点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一）保险市场的对象与风险直接相关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二）保险市场是一种特殊的“期货”交易市场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三）保险市场是非即时清洁市场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</a:rPr>
              <a:t>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66"/>
                </a:solidFill>
                <a:latin typeface="Times New Roman"/>
              </a:rPr>
              <a:t>二、保险市场的构成要素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一）保险市场的主体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二）保险市场的客体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66"/>
                </a:solidFill>
                <a:latin typeface="Times New Roman"/>
              </a:rPr>
              <a:t>第二节  保险市场的组织形式与组织结构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66"/>
                </a:solidFill>
                <a:latin typeface="Times New Roman"/>
              </a:rPr>
              <a:t>一、保险市场的组织形式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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一）国营保险组织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</a:rPr>
              <a:t>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国营保险组织是由国家或政府投资设立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的保险经营组织，如国有独资保险公司。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二）私营保险组织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私营保险组织是指由私人投资设立的保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险经营组织。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股份有限公司和相互保险公司是两种典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型的私营保险组织。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三）合作保险组织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合作社是由一些具有相同保险需求的人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组织起来、共同经营的相互保险组织。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相互保险社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合作社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(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四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)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专业自保组织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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专业自保组织是由某一行业或公司为本公司或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本系统提供保险保障的组织形式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。</a:t>
            </a: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五）个人保险组织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个人保险组织是以自然人的名义承保风险业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务的一种组织形式。迄今为止，英国的劳合社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是当今世界唯一的一家个人保险组织。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8T00:24:50Z</dcterms:created>
  <dc:creator>aa</dc:creator>
  <dc:description/>
  <dc:language>en-US</dc:language>
  <cp:lastModifiedBy>苏菲的小猫</cp:lastModifiedBy>
  <dcterms:modified xsi:type="dcterms:W3CDTF">2020-05-25T05:12:02Z</dcterms:modified>
  <cp:revision>24</cp:revision>
  <dc:subject/>
  <dc:title>没有幻灯片标题</dc:title>
</cp:coreProperties>
</file>